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98C-69E5-498B-B23F-F58E3952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395-CFFA-4810-9E3B-4B599EC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AF82-5A06-47C3-B20D-21A17EA3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BBE-01EA-4B79-9DF9-517611BF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A2FF-BE2E-4E28-B51D-2AA215A8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10D-1518-476B-BE3E-F5C298BE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DFC-3748-4151-BEE7-A3B60F17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544-2541-407D-A582-961C5BF4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829-2B6E-4214-8D78-7BC5DF7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3BA-EC6D-4941-88E7-E995F59A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BAE-30AB-4183-B5AB-6C90BEB1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934-BFFF-4DE5-89A6-9631D50A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606C-19BE-4099-834E-A636D7379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4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625320" y="428760"/>
          <a:ext cx="808200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8200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625320" y="428760"/>
          <a:ext cx="8015400" cy="658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428760"/>
                    <a:ext cx="8015400" cy="65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635040" y="477720"/>
          <a:ext cx="795636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1 Rectángulo"/>
          <p:cNvSpPr/>
          <p:nvPr/>
        </p:nvSpPr>
        <p:spPr>
          <a:xfrm>
            <a:off x="179280" y="189000"/>
            <a:ext cx="878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ir lista de n "filas" y 4 "column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sección, nombre y notas de pregunta 1 en una 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1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append( [linea[0],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nea[1:21],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(linea[21:23])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guardar notas de pregunt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notas2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buscar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[i][1]==linea[1:21]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.append(int(linea[21:23])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1 Rectángulo"/>
          <p:cNvSpPr/>
          <p:nvPr/>
        </p:nvSpPr>
        <p:spPr>
          <a:xfrm>
            <a:off x="468360" y="404640"/>
            <a:ext cx="8136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alcular y guardar planilla final orden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.sort() #ordenar por sección y no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=open("notas.txt","w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 in range(len(L)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medio=int((L[i][2]+L[i][3])/2.0+0.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write(L[i][0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[i][1]+     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2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L[i][3])+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(promedio)+"\n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rchivo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403200" y="469800"/>
          <a:ext cx="8427960" cy="575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57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4"/>
          <p:cNvGraphicFramePr/>
          <p:nvPr/>
        </p:nvGraphicFramePr>
        <p:xfrm>
          <a:off x="379440" y="304920"/>
          <a:ext cx="861696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304920"/>
                    <a:ext cx="861696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403200" y="477720"/>
          <a:ext cx="851868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77720"/>
                    <a:ext cx="85186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4"/>
          <p:cNvGraphicFramePr/>
          <p:nvPr/>
        </p:nvGraphicFramePr>
        <p:xfrm>
          <a:off x="271440" y="247680"/>
          <a:ext cx="8691480" cy="67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247680"/>
                    <a:ext cx="8691480" cy="67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403200" y="469800"/>
          <a:ext cx="8427960" cy="612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1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4"/>
          <p:cNvGraphicFramePr/>
          <p:nvPr/>
        </p:nvGraphicFramePr>
        <p:xfrm>
          <a:off x="452520" y="304920"/>
          <a:ext cx="8066160" cy="80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452520" y="304920"/>
          <a:ext cx="8066160" cy="807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04920"/>
                    <a:ext cx="8066160" cy="80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403200" y="469800"/>
          <a:ext cx="8427960" cy="661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61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jalvarez</cp:lastModifiedBy>
  <cp:lastPrinted>2006-05-19T15:19:42Z</cp:lastPrinted>
  <dcterms:modified xsi:type="dcterms:W3CDTF">2011-05-02T15:29:05Z</dcterms:modified>
  <cp:revision>58</cp:revision>
  <dc:subject/>
  <dc:title>Sin título de diapositiva</dc:title>
</cp:coreProperties>
</file>